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97CE-D32D-49B2-BCA9-01DE0E12F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6C9D-E820-4E8E-B271-E3A9F1C07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3C86-ED4B-4CA1-91D1-8AF1DE6CF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CC4-2C34-4735-AD3C-D194514E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6325-997C-4562-8492-1F53102D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E1B1-E57D-4B86-8743-A39D6734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5EDA-170E-4F5A-96DB-E0806B14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981-B669-4DF8-9D07-BDD11EAFD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7F7B-F853-4D20-B2BE-9736E3980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5092-EDDC-451D-880D-ED85329E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F449-B338-46C7-8A71-316993B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DCDB-92B7-4678-8ED6-22B96D98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0519-A738-4540-9B5D-BCB0BF188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ision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 Usage and Prono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commas where needed in the following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 a sport Raines should quit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dgeball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sport Raines should quit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very popular in Mountain Br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sentence corr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ain will I am sure, be on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’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 the word(s) that should be followed by a comma and put one after the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We’re eating dinner now but I’ll call you back as sonn as we fini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Are you busy Friday night or would you like to go to the movies with 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Don’t forget to take your history book home this weekend for the test Mon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The recipe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illy’s Cook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re adapted for the modern cooks yet the ingredients listed are all tradit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Quilting is a practical folk art and it is also a relaxing and enjoyable pas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no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nig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weeken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cook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ar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pronoun does not agree with its antecedent write the correct prono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Each of the skiers waxed their skis every mor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Every one of the reporters at the press conference asked their questions too quick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I think that anybody should be free to express their opin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Both of the male soloists pronounced his words clear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If anyone gets lost while exploring Salt Lake City, they should use the street maps available from the tour gu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As far as I could see, each of the speakers made a mistake while presenting their argument during the deb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 to pronou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 his or her or an opin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the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 he or s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 his or 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1371600" y="2438280"/>
            <a:ext cx="613404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The End Enjoy your studing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the Quiz 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 pronoun should refer clearly to its _____. Fill in the bl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Jack wants to go to their f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wrong with this sen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whose farm it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three personal pronouns should you av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, it, and th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hould the comma go in the following sentence?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l you are welcome to join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wel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 to ?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because its an introductory w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9:06:25Z</dcterms:created>
  <dc:creator>User</dc:creator>
  <dc:description/>
  <dc:language>en-US</dc:language>
  <cp:lastModifiedBy>User</cp:lastModifiedBy>
  <dcterms:modified xsi:type="dcterms:W3CDTF">2006-10-10T19:12:16Z</dcterms:modified>
  <cp:revision>3</cp:revision>
  <dc:subject/>
  <dc:title>Revision 1 </dc:title>
</cp:coreProperties>
</file>